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99B396-2517-4622-AFFD-9377C1A9B0B1}" type="datetime">
              <a:rPr b="0" lang="lt-LT" sz="1200" spc="-1" strike="noStrike">
                <a:solidFill>
                  <a:srgbClr val="000000"/>
                </a:solidFill>
                <a:latin typeface="Calibri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5151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900600" y="95151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95933-0AA0-4230-B804-F9301824B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AD210-B5E9-4F1E-9B10-DEA6AB8EA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20900-26B1-4902-8250-F241786FE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25421-EAEF-4CEF-AC82-E86CBD0C6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D7AEB-7F80-4F98-8A2D-F27611EDF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6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343DC-EE8F-4E08-BBD8-658131D493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333BB-73F9-46F2-AC33-2040F86F9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7FE1A-6042-4F8A-A3B4-C6952249F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0CB82-4A20-4031-B4DB-E181DE551D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0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A0949-4843-4250-9FAD-67FFA9C8ED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614E7-16A3-4BD4-9538-33C3337E6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A6EC2-123C-4C9A-BD75-1BF6ECF33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E8F73-8A20-4C6C-B783-55FCBFB60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9C3DB-0200-4358-A51F-1D801A844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4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1C208-EAF7-4D8A-BF67-CF63FDEE2B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60133-4CA4-400C-8D7E-22C44118C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8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AC33C-FC42-4F3D-BE62-0DC36CDEA1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2AC42-38DA-48B1-8B95-E0915E928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2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A28D6-EA7C-424E-B23E-EE0058D45E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DD9EE-EC55-4393-851F-65B29C608A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6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F65B1-30D8-4DB8-BDC5-2A2C864F41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66EB3-44ED-4A2D-8F04-AD3E256C1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FD80B-4C8D-4009-AEDA-6409BF3142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BD488-9285-4F69-8C5B-6B1020E9B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F3242-E8B8-4D59-81A9-46EC67960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A84-3EB0-4514-9FE8-871C2A9C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649-1AC4-4C13-8931-39F62C1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A497B-F254-468F-AA20-5FA76CC7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72876-7545-407B-A6F2-B35612CB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8524-202F-42C7-9F0B-EB71EFA4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FC888-72F3-43D2-B86E-2F71284E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80E0B-C8FE-4B23-A605-80F70D9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C4713-8CA7-49C5-B4E2-8D88ABD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8CEBB-3BD1-4DA8-A22E-B0C472D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53E16-A65D-48FF-976C-885FFC4F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F099C-129C-41AE-9CC5-873FA6EF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D5467-30CA-4DC2-90D2-3B9C65F8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81A-1131-4A48-B3C4-0DAC22A9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3BD9-ABC1-4174-B8F9-B17950B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EA77C-AFBC-4D3E-8917-4FE23B1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D9EB9-7561-429A-8BB6-F18E243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EA852-8A58-4D46-AA56-02AE0A6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17397-2340-4F9E-AC1A-08395E0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B2DF-B186-41C7-8B1F-08C44F7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1CA7B-ABA2-4820-BC9F-06DC615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3275-CA39-48E6-AE4B-9235414E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99DE-167B-4BA1-9A5A-35DD82A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3A13E-A357-4E70-A72D-EF80C747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0C9-C91E-4DF6-833F-FE37F2E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F005B-7D43-4387-AD4B-1D66E2BE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0D9A2-6F7D-4893-8C84-E6AD9D5B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04D23-6BEE-49C6-BBAC-F9A34783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C1966-CC90-48D1-BE82-98BC24A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8DB0-37D6-4A5A-9429-9E9FB0EE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D7173-C4FB-4114-AA6B-9B50960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E6EB9-98D6-4905-A73D-B6D67E5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09AAA-9F45-4E36-B3F5-08C8DB0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17CEA-911D-40E0-A3A7-405DCA9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6019-F1ED-4E41-9F76-CB55328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F655-B362-4F34-823A-FF648427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198A9-A052-4FB3-922E-6346360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87F18-4970-49A9-97FA-ED332F16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4D214-9DBA-499A-B946-A7552AB9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33087-578B-4ACC-89BC-B5903DFE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24AC7-304B-44FF-B0BC-A78396D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848E0-236D-4EA3-8E38-DBE96D1E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96362-9952-4388-802A-3BB6F824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92544-512E-4E29-83DE-3A37B5F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1F83-DEDA-4CC7-AE3B-10A15322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8F7BC-12FD-46DC-A6A4-B45A406C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0F21-0548-4F0F-8D33-9856224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C7B4-DC4C-4EDF-ABD6-F445258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A1AC8-64DA-4B0A-A018-45A2428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2A59A-762F-49F4-8638-33A36FE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1E1E4-B591-426F-B6FC-47F04461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7463A-1B81-49A5-B105-AB7258D0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AE775-AAFE-4E72-92FE-04CCEE15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9BA4E-B12D-4F2D-8102-4BB622C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E9B79-9EF1-4AC0-B38A-DCDF258A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83278-A58D-4C41-A31D-77360C9F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2762A-6783-4698-8B03-1E18607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988-05E0-4E9D-BD45-C094BBF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B73FE-3271-4192-9E94-1AA1068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89D34-074F-42E4-8E1A-93E35D9A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2B144-A12C-44C3-9CD3-3BD2D83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BC414-0C7C-4BD7-BF72-16B841E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F2059-3329-4D94-96B8-BE4C5F20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0ECE7-5C69-494E-850A-3A66FD7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69252-5FF7-421C-A0CD-35F7D464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08C4A-0B5E-4453-B1A1-CDD46BE3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034D9-ED44-44C8-84F1-46149244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7DB3B-BFBB-43B4-BD5A-647676E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2E4-D239-4821-A112-82DE80F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766AA-00F8-4E49-AA79-E4C2B5F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213E0-8B66-41EE-B145-F1CE701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EEC09-5F42-4EE0-B264-C7CA19A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011A7-85D8-4EEE-BDB8-1F2AD7F1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D20E-38E4-4C46-9F1A-364AA00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5AD3E-4480-4786-8A1E-F1F9A42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043BB-7366-41C8-B272-1FC95836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30FE3-4175-4766-AB00-D8EE464E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693D6-8CC6-4B2F-8A6B-827645AA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0E9D3-632F-48D6-A7DF-434C769E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14C8-F5AF-4C0A-B902-9CE8691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0769E-6E28-4935-A9AF-EEF2692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1CE84-2060-4B7C-A4F8-039AF08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150E3-B66F-4F4E-8B5D-196174E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4F03A-2441-4E3D-B030-614ED99F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0864A-6B0B-43F8-8C24-8AFF195F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F6B96-8CB3-49EF-88EA-F74DFBC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460B2-B9BD-463E-BDF1-7D39030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019CC-44D8-475D-B958-3A7A389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A4646-9447-4930-BCC5-F1A942E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CA168-B451-4CD5-BC42-44382484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5BB-8D08-446F-9DF1-69C94A9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8387C-F353-4F49-8920-FB215EAE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A0400-7251-44F5-AB77-57E6EB58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61C91-DFE8-4B58-BAA2-2909B5FD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7FC38-7F9C-47C2-9B5C-B2E94C7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2327B-A543-4EF4-8AC5-731E720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20A56-A3DE-4E0C-9B8B-90555995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04BB4-F86C-4682-896F-91E29CB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B1D7F-78FD-4586-ADB2-5542037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8382D-8231-4DC9-A354-B5FC8F7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3778B-EFA4-4434-8841-404C819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8E97-7191-475C-8D02-E78B3B6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A6B5B-9D51-43D4-AA48-F71FEDF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452A2-DE22-4B70-A07F-7A32FBC1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AF05F-AE72-42BB-B6FC-C68A3DD7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4AA28-3EB0-4098-8C20-9C124453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4A4F3-8834-4AFD-B3AB-AFF7A96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7ADB3-9B65-41EF-8409-A084433A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73157-8681-4EEC-B587-184BA6A3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2ED5B-12F1-431C-811D-B2054530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9C3C4-5970-42C1-A390-59E3587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194BA-4359-4A4F-A000-B78FB45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804-6358-4ECC-9B7A-75F2A843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A857-24D4-427C-AF9B-2B51924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5996E-2324-40EA-94EF-5DC3957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34925-9F36-4E55-893B-8E2D83E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40D0C-5320-4286-BCA8-26AE428D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CE197-3BD1-41D2-910E-4F05A507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1F6F4-3E8E-440B-8A91-EC8860DB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74C3-F9D9-47D1-AC86-5215CEB9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2D70-6CD7-4DCB-8607-2B55F912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884-708F-416A-A4EC-2087ADDE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35D7-7071-41CD-91A2-96FF5200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8C75-CF40-4DC6-AE1E-81686AA0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D165-B2D7-4734-9C16-ABF9B39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2076-DA86-4678-B297-C69B7087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9E87-AAAA-4354-A68F-FFF2F59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8EAE-A573-4553-B070-E084364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A7A-804F-456B-A165-449DEB9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5330-EC02-4726-991A-A597C31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32CA-C2A3-4460-A3C7-819C3CB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FAFF-130A-4900-AC5A-1B0C7CD1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035D-61AB-4BEB-BA88-030F171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6AA1-246F-4261-871C-B251ECE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8133-C5C6-4813-9485-A1432259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CA3D-B560-4972-9710-A17D47F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40C3-11C8-4693-BB35-ADDA2122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DDAB-A929-45A5-8972-7C6F89B7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626F-7990-4E18-972E-5A38E25D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82D-59DB-4E31-BF43-7144714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DBAE-F298-4F4A-85AD-FEFAD31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172B-8DE4-4A5B-82A3-9D2EC743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28C4-0776-4EEB-BF54-BD6AE399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F232-1E2A-4F9F-BB92-32E76453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88ED-87D5-4F40-936B-25245CD3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A95EF-34FA-4737-943B-132C8202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57C5-661C-481B-B4D3-88C534B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F900-6D8B-498D-A9BB-A8C9F481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C619-420E-4F2E-AFD5-0813A662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781E2-EA67-45D5-9BF3-A012DFF5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801-1ECF-4229-AABF-1DC474D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9A56-E2C8-48B9-A6F4-2C6A3C9F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5FC7-0874-41F2-9BCD-46B150E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F2FF-DA48-4F8E-AA7B-AFF4426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EB74-50C0-4D4F-BB43-01DED44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8A17-DD70-4B9E-8EA9-2F0D04A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5450-619B-4841-8C3F-195EF5C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2B6C-A2F2-4225-BCA4-FE1C88D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3D96-6B37-479C-809F-7E3F8AC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AF44-6F05-45A7-B988-E42CE00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68995-E5D8-4BB4-BE4B-B305A0AA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283-C877-42E2-BCA5-514333E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A5F4-E968-4481-9075-D41CDBCD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D8EB-EE1D-4791-B5DB-4864D07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3FFC-926E-4B15-AD3C-1E9A4355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910A-9768-4A9A-A044-2FD5833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9246-5BA5-4548-B6D4-CF62FBCD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889F-68BD-43FA-A735-3A708BF7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D3C0-F88C-4774-B5A7-ED6A222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F293-25E0-4C1E-A82C-633AFB77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07B33-574E-4333-9FE5-95DC293A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7020A-ABD8-478D-A9F5-3193A81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2E4-E4A4-4CC9-BA69-41B5749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B2B0-6C90-4232-B57F-9852D47F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A9B5-99E7-483E-97A5-05687F6E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1995-EAF5-44C3-80AD-1FA1F7D4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43C4-DE92-434D-AB96-E260E43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BA7E-8E96-4FE6-A70C-9F68865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F999-201D-45A6-9144-97CFDC98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1D54-D36E-4A72-B75A-2D0F431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6B79-6B35-49B6-80E3-FBEBAF5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B73E5-DBBC-493C-9320-90DDBE96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DDAA9-ADB1-49B9-8488-F4970460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FBE-A051-416A-BB26-FA813266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C736-9006-4C26-B750-EDFCACF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85862-5C87-41C3-BBE9-5A80D42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F75F-00A8-4007-9A60-508F47DB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9874-6F25-44C9-B9D1-D5CEEA5C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37AA-27E7-49EF-AB85-2437D64C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F320-7DA5-4A45-82C1-21AEB07C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95A14-483C-4DE3-992F-E6643A79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7CDC3-9B90-453D-9070-A8DDF45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60111-CAEF-4C8C-8C82-116FD425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2A3FA-7608-4123-86A2-73FCC63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65E-ED59-4E88-9391-881C359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0A68-A1E6-4914-AC3E-9DDFDE2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8048-3A11-4BA9-8A72-158985A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2A566-5B2D-4515-97FD-0B2B38A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670D-5405-49F5-93A0-BBAAC44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22AC-3195-4B5C-9D6C-7ED3A1D7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81BD-EDF2-4F38-B45C-C1526116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A1FC-F683-4744-B334-65688868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FA86B-E9E6-4DEF-B5C3-2A7195D8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98E1E-86F3-4695-A6E4-A6ED015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2AF81-CB78-4F8E-AEF6-F8BDF75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09AD-5D27-44D9-A9DA-1E4E5A3BEF6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13738-DCD5-4AEE-9BF2-F5EC20C8CD7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3B53-2DDA-458D-9863-16A04549679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F31E3-99FE-472D-BFE5-C446B8E8ACE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ED3F1-1894-4803-9872-279158CD208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10853-EE3C-4276-B243-C21AC656807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0920D-225E-49C2-BB44-0C8E2744057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ADA1E-0E6F-49BF-A699-9F4BC78DD38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8E048-E598-4494-984D-A07596ED76A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8B3AD-539B-491F-8D1A-2A7193DA9EE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3A171-E0FF-4342-A170-3C022FF1E7D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D893E-0CB9-4094-861C-725A3E54A54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16074-7FA3-4573-8727-C7CCCC6D846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39B16-083B-4B5A-812B-6961F7F2048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B181D-970A-4BAA-832A-0F7B5D5BBE7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D79EB-A32E-44E3-876D-855DAD20A59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BBA0B-E98C-49C7-B385-986D57E37EB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delfi.lt/keliones/po-lietuva/senovines-bitininkystes-muziejuje-saldi-pazintis-su-amato-istorija.d?id=75385009" TargetMode="External"/><Relationship Id="rId2" Type="http://schemas.openxmlformats.org/officeDocument/2006/relationships/hyperlink" Target="https://www.google.com/url?sa=i&amp;rct=j&amp;q=&amp;esrc=s&amp;source=images&amp;cd=&amp;ved=2ahUKEwjxzPL8gvriAhXuyKYKHbNmBGQQjRx6BAgBEAU&amp;url=https%3A%2F%2Fwww.efoto.lt%2Fnode%2F1189556&amp;psig=AOvVaw1BQMGVRIe0JZMruHMubzxa&amp;ust=156118754672558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s://www.google.com/url?sa=i&amp;rct=j&amp;q=&amp;esrc=s&amp;source=images&amp;cd=&amp;ved=2ahUKEwilx9CPg_riAhX88KYKHZ3lBeYQjRx6BAgBEAU&amp;url=https%3A%2F%2Fwww.15min.lt%2Fnaujiena%2Faktualu%2Flietuva%2Fpasvalio-mero-fenomenas-ar-rinkejai-atsidure-politineje-smegduobeje-56-1108406&amp;psig=AOvVaw1BQMGVRIe0JZMruHMubzxa&amp;ust=1561187546725587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s://www.google.com/url?sa=i&amp;rct=j&amp;q=&amp;esrc=s&amp;source=images&amp;cd=&amp;ved=2ahUKEwjQ5-XQg_riAhVDyKYKHbdeAB0QjRx6BAgBEAU&amp;url=https%3A%2F%2Flt.wikipedia.org%2Fwiki%2FRauboni%25C5%25B3_vandens_mal%25C5%25ABnas&amp;psig=AOvVaw2XNcJjZvBNgOcBe1TfmTk3&amp;ust=1561187723933073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s://www.google.com/url?sa=i&amp;rct=j&amp;q=&amp;esrc=s&amp;source=images&amp;cd=&amp;ved=2ahUKEwjOzarug_riAhXSwsQBHb3sAiQQjRx6BAgBEAU&amp;url=http%3A%2F%2Fwww.turistopasaulis.lt%2Fjoniskelio-dvaras%2F&amp;psig=AOvVaw2h0dtz0EquKMZ6Y7NHAUQD&amp;ust=1561187784484323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s://www.google.com/url?sa=i&amp;rct=j&amp;q=&amp;esrc=s&amp;source=images&amp;cd=&amp;ved=2ahUKEwiZ8KuUhPriAhVYxcQBHToSBHsQjRx6BAgBEAU&amp;url=https%3A%2F%2Fmamyciuklubas.lt%2Fmoteru-klubas%2Fpakeliui-i-latvija-rauboniu-zooparkas-50081%2F&amp;psig=AOvVaw3AaX_cfiBuf6QEvbrlI7SM&amp;ust=1561187847610299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s://www.google.com/url?sa=i&amp;rct=j&amp;q=&amp;esrc=s&amp;source=images&amp;cd=&amp;ved=2ahUKEwjA58CthPriAhVHJZoKHa9-B1EQjRx6BAgBEAU&amp;url=http%3A%2F%2Fwww.turistopasaulis.lt%2Fgirnu-muziejus-pasvalyje%2F&amp;psig=AOvVaw3mynqzmrO0yhIzKcRBrUZz&amp;ust=1561187916112861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s://www.google.com/url?sa=i&amp;rct=j&amp;q=&amp;esrc=s&amp;source=images&amp;cd=&amp;ved=&amp;url=http%3A%2F%2Fkauno.diena.lt%2Fnaujienos%2Flietuva%2Fsalies-pulsas%2Fnaujas-latviu-traukos-centras-lietuvoje-pasvalys-620175&amp;psig=AOvVaw32QYWw_YkSvaZj3WgdoaRK&amp;ust=1561187955467349" TargetMode="External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vernmentjobs.com/jobs?keyword=Agriculture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s://www.iconfinder.com/icons/533156/acquisition_business_chart_data_graph_growth_investment_icon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s://www.flaticon.com/packs/manufacturing-and-production" TargetMode="External"/><Relationship Id="rId6" Type="http://schemas.openxmlformats.org/officeDocument/2006/relationships/image" Target="../media/image23.png"/><Relationship Id="rId7" Type="http://schemas.openxmlformats.org/officeDocument/2006/relationships/hyperlink" Target="http://www.youthservices-gn.org/local-resources/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thenounproject.com/term/students/75253/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501920" y="3806640"/>
            <a:ext cx="5976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lt-LT" sz="2900" spc="-1" strike="noStrike">
                <a:solidFill>
                  <a:srgbClr val="262626"/>
                </a:solidFill>
                <a:latin typeface="Cambria"/>
              </a:rPr>
              <a:t>PASVALIO RAJONO SAVIVALDYBĖS STRATEGINIS PLĖTROS PLANAS 2021–2027 METAMS</a:t>
            </a:r>
            <a:br>
              <a:rPr sz="2300"/>
            </a:br>
            <a:r>
              <a:rPr b="0" i="1" lang="lt-LT" sz="1800" spc="-1" strike="noStrike">
                <a:solidFill>
                  <a:srgbClr val="262626"/>
                </a:solidFill>
                <a:latin typeface="Cambria"/>
              </a:rPr>
              <a:t>KOMITETAI, TARYBA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501920" y="5373720"/>
            <a:ext cx="685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400" spc="-1" strike="noStrike">
                <a:solidFill>
                  <a:srgbClr val="595959"/>
                </a:solidFill>
                <a:latin typeface="Garamond"/>
              </a:rPr>
              <a:t>2019 m. rugpjūti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TextBox 8"/>
          <p:cNvSpPr/>
          <p:nvPr/>
        </p:nvSpPr>
        <p:spPr>
          <a:xfrm>
            <a:off x="7451640" y="504720"/>
            <a:ext cx="15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Pasvalio rajono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savivaldybės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administracij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6" name="Picture 1" descr=""/>
          <p:cNvPicPr/>
          <p:nvPr/>
        </p:nvPicPr>
        <p:blipFill>
          <a:blip r:embed="rId1"/>
          <a:stretch/>
        </p:blipFill>
        <p:spPr>
          <a:xfrm>
            <a:off x="250920" y="396720"/>
            <a:ext cx="1584360" cy="820800"/>
          </a:xfrm>
          <a:prstGeom prst="rect">
            <a:avLst/>
          </a:prstGeom>
          <a:ln w="0">
            <a:noFill/>
          </a:ln>
        </p:spPr>
      </p:pic>
      <p:pic>
        <p:nvPicPr>
          <p:cNvPr id="1187" name="Paveikslėlis 7" descr=""/>
          <p:cNvPicPr/>
          <p:nvPr/>
        </p:nvPicPr>
        <p:blipFill>
          <a:blip r:embed="rId2"/>
          <a:stretch/>
        </p:blipFill>
        <p:spPr>
          <a:xfrm>
            <a:off x="7020000" y="587520"/>
            <a:ext cx="76356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574280" y="620280"/>
            <a:ext cx="6347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BALSAVIMO REZULTATAI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4C56C-744C-4B67-A295-55B7A772685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8" name="Chart 6" descr=""/>
          <p:cNvPicPr/>
          <p:nvPr/>
        </p:nvPicPr>
        <p:blipFill>
          <a:blip r:embed="rId1"/>
          <a:stretch/>
        </p:blipFill>
        <p:spPr>
          <a:xfrm>
            <a:off x="1042920" y="1414440"/>
            <a:ext cx="7412040" cy="4316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541160" y="549000"/>
            <a:ext cx="635004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VIZIJOS KŪRIMO EIGA (2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522080" y="1557000"/>
            <a:ext cx="7343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Strateginio planavimo grupės posėdyje gyventojų išrinktas vizijos variantas buvo pakoreguota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33E4B-FE58-40E2-89B8-41D7257B980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85920" y="204480"/>
            <a:ext cx="7618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ASVALIO RAJONO PLĖTROS VIZIJA IKI 2027 M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991800" y="2936520"/>
            <a:ext cx="386244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800" spc="-1" strike="noStrike">
                <a:solidFill>
                  <a:srgbClr val="464653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AutoShape 21">
            <a:hlinkClick r:id="rId1"/>
          </p:cNvPr>
          <p:cNvSpPr/>
          <p:nvPr/>
        </p:nvSpPr>
        <p:spPr>
          <a:xfrm>
            <a:off x="3032280" y="2262240"/>
            <a:ext cx="611172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 u="sng">
                <a:solidFill>
                  <a:srgbClr val="404040"/>
                </a:solidFill>
                <a:uFillTx/>
                <a:latin typeface="Cambria"/>
                <a:ea typeface="Cambria"/>
              </a:rPr>
              <a:t>Pasvalio kraštas</a:t>
            </a:r>
            <a:r>
              <a:rPr b="0" lang="lt-LT" sz="2800" spc="-1" strike="noStrike">
                <a:solidFill>
                  <a:srgbClr val="404040"/>
                </a:solidFill>
                <a:latin typeface="Cambria"/>
                <a:ea typeface="Cambria"/>
              </a:rPr>
              <a:t> – sveika, veikli bendruomenė, gyvenanti kokybiškoje ir saugioje aplinkoje, vystanti inovatyvų žemės ūkį ir produkcijos perdirbimą, pažintinį turizmą, sauganti kultūros paveldą ir unikalią pasvalietišką tarmę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6" name="Picture 14" descr="Image result for pasvaly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6160" y="5297400"/>
            <a:ext cx="2670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6" descr="Image result for pasvaly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29560" y="4941720"/>
            <a:ext cx="2122200" cy="19400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8" descr="Image result for raubonių malūna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21360" y="865080"/>
            <a:ext cx="1938600" cy="14162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0" descr="Image result for joniškėlio dvara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9960" y="3075120"/>
            <a:ext cx="2381040" cy="15843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22" descr="Image result for raubonių zooparka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4645080"/>
            <a:ext cx="2606760" cy="15634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4" descr="Image result for girnų ekspozicija pasvalio rajo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13240" y="782640"/>
            <a:ext cx="2416320" cy="16066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6" descr="Related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1523880"/>
            <a:ext cx="2606760" cy="159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76360" y="658440"/>
            <a:ext cx="6588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pSp>
        <p:nvGrpSpPr>
          <p:cNvPr id="1255" name="Group 32"/>
          <p:cNvGrpSpPr/>
          <p:nvPr/>
        </p:nvGrpSpPr>
        <p:grpSpPr>
          <a:xfrm>
            <a:off x="1332000" y="2398680"/>
            <a:ext cx="863640" cy="831960"/>
            <a:chOff x="1332000" y="2398680"/>
            <a:chExt cx="863640" cy="831960"/>
          </a:xfrm>
        </p:grpSpPr>
        <p:sp>
          <p:nvSpPr>
            <p:cNvPr id="1256" name="Oval 33"/>
            <p:cNvSpPr/>
            <p:nvPr/>
          </p:nvSpPr>
          <p:spPr>
            <a:xfrm>
              <a:off x="1332000" y="2438280"/>
              <a:ext cx="792360" cy="79236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7" name="TextBox 34"/>
            <p:cNvSpPr/>
            <p:nvPr/>
          </p:nvSpPr>
          <p:spPr>
            <a:xfrm>
              <a:off x="1476360" y="239868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58" name="Stačiakampis 26"/>
          <p:cNvSpPr/>
          <p:nvPr/>
        </p:nvSpPr>
        <p:spPr>
          <a:xfrm>
            <a:off x="1938240" y="22748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vidaus ir išorės analizės pagrindines išvadas, prioritetus ir investicines kryptis iki 2027 met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AAFEC-A51B-4295-A1E9-FE810B0000AA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01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000" spc="-1" strike="noStrike">
                <a:solidFill>
                  <a:srgbClr val="262626"/>
                </a:solidFill>
                <a:latin typeface="Cambria"/>
              </a:rPr>
              <a:t>PASVALIO RAJONO SPP PRIORITETAI IKI 2027 METŲ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171440" y="1582560"/>
            <a:ext cx="7632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I prioritetas. PAŽANGI IR KONKURENCINGA EKONOMIK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f0a22e"/>
                </a:solidFill>
                <a:latin typeface="Cambria"/>
              </a:rPr>
              <a:t>II prioritetas. AUKŠTA GYVENIMO KOKYBĖ SOCIALIAI ATSAKINGAME IR PILIEŠIKAME RAJONE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III prioritetas. ŠVARESNIS, IŠVYSTYTAS IR GERIAU PASIEKIAMAS RAJONA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f0a22e"/>
                </a:solidFill>
                <a:latin typeface="Cambria"/>
              </a:rPr>
              <a:t>IV prioritetas. SAUGUS RAJONAS IR EFEKTYVI SAVIVALD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392EB-9AB5-423F-A4AB-8C95F1B7C53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393920" y="510840"/>
            <a:ext cx="662472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11280" y="1444680"/>
          <a:ext cx="8424720" cy="4827600"/>
        </p:xfrm>
        <a:graphic>
          <a:graphicData uri="http://schemas.openxmlformats.org/drawingml/2006/table">
            <a:tbl>
              <a:tblPr/>
              <a:tblGrid>
                <a:gridCol w="1380960"/>
                <a:gridCol w="7043760"/>
              </a:tblGrid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Žemės ūkio kraštas, kurio žemių našumo balas yra vienas didžiausių šalyje, čia labiau plėtojama augalininkystės š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ors tiesioginių ir materialinių užsienio investicijų srautai auga, tačiau atsilieka nuo šalies ir regiono rodikli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97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desnė nei vidutiniškai šalyje pramonės sektoriuje dirbančių ūkio subjektų dalis, mažesnė – mokslinėje ir techninėje veiklo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asirinkta Panevėžio regiono verslo specializacija – </a:t>
                      </a:r>
                      <a:r>
                        <a:rPr b="0" i="1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a ir automatizavimas, biotechnologijos, transportas, pramonė ir logistika, baldai  ir tekstilė, žemės ūkis ir gamtos ištekliai, maisto ir gėrimų gamyba – </a:t>
                      </a: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takos ir Pasvalio rajono verslo kryp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Ypač svarbus nacionalinės reikšmės arealas kraštovaizdžio naudojimo ir apsaugos prasme, tačiau vidutinio potencialo rekreacinis area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30DF7-AF83-4019-BF3E-4BE2FC17FB3F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6" name="Picture 10" descr="Vaizdo rezultatas pagal užklausą „crop production icon png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880" y="1444680"/>
            <a:ext cx="1054080" cy="76212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15" descr="Vaizdo rezultatas pagal užklausą „investment icon png“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8480" y="2219400"/>
            <a:ext cx="993960" cy="8841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16" descr="Vaizdo rezultatas pagal užklausą „manufacturing and services icon png“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640" y="3608280"/>
            <a:ext cx="1187640" cy="10429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17" descr="Vaizdo rezultatas pagal užklausą „recreational resources icons png“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8720" y="5157720"/>
            <a:ext cx="112860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32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 (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1116000" y="1506600"/>
          <a:ext cx="7451640" cy="4754520"/>
        </p:xfrm>
        <a:graphic>
          <a:graphicData uri="http://schemas.openxmlformats.org/drawingml/2006/table">
            <a:tbl>
              <a:tblPr/>
              <a:tblGrid>
                <a:gridCol w="7451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uoti žemės ūkius, plėtoti alternatyvias žemės ūkiui veiklas kaime, skatinti vietinio maisto sistemų atsiradimą ir plėtoj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varstyti galimybę įkurti LEZ/ PP filialą, įkurti verslo slėnį/ inkubatorių/ centr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os ir automatizavimo, biotechnologijų, transporto ir logistikos bei perdirbamosios pramonės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las, kurti verslo klasterius, skatinti ekologinių inovacijų versle atsirad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aikyti mokesčių lengvatas, „žaliojo koridoriaus“ principu taikomas investuotojų įsikūrimo procedūras, remti SVV versl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7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6A119-96C2-4B37-9B9B-2634ADDBA86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32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 (I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1042920" y="1371600"/>
          <a:ext cx="7777080" cy="49608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3143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privataus ir viešojo sektoriaus partnerystę, vykdyti verslo bei turizmo rinkodaros priemones, organizuoti moky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„jauno verslo“, nuotoliniu būdu dirbančių gyventojų „ekosistemas“, diegti socialinio verslo modelius, gerinti gyventojų ekonominį mobilum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70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urti, plėsti ir atnaujinti rekreacijos, aktyvaus poilsio, kulinarinio, pažintinio turizmo infrastruktūr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veiklinti kultūros, gamtos, sakralinio, technikos, archeologinio paveldo objektus, dvarus bei dvarų teritori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7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78B05-D4CC-443B-A0B3-CB7A147622B5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561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7" name="Content Placeholder 8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236080" cy="4741920"/>
          </a:xfrm>
          <a:prstGeom prst="rect">
            <a:avLst/>
          </a:prstGeom>
          <a:ln w="0">
            <a:noFill/>
          </a:ln>
        </p:spPr>
      </p:pic>
      <p:sp>
        <p:nvSpPr>
          <p:cNvPr id="127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D1135-0548-4861-BAFB-3F41A0AC2C0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9850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 (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690480" y="1665360"/>
          <a:ext cx="7952040" cy="4429080"/>
        </p:xfrm>
        <a:graphic>
          <a:graphicData uri="http://schemas.openxmlformats.org/drawingml/2006/table">
            <a:tbl>
              <a:tblPr/>
              <a:tblGrid>
                <a:gridCol w="1303560"/>
                <a:gridCol w="6648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mokinių skaičius BUM, bet augantis ikimokyklinio ir priešmokyklinio ugdymo auklėtinių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Beveik 65 proc. vaikų dalyvauja neformaliojo švietimo veiklo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 Pasvalio sporto mokykla, plėtojamos 7 sporto šakos, organizuojami įvairūs sporto renginiai, aktyviai veikia sporto klub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eityje augantis slaugos, geriatrijos ir panašių paslaugų poreikis dėl sparčiai senstančios visuomenė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F8825-F6A3-446E-8E8B-083D19F05D63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2" name="Picture 8" descr="Vaizdo rezultatas pagal užklausą „pupil icons png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920" y="1859040"/>
            <a:ext cx="1030320" cy="86508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13" descr="Susijęs vaizdas"/>
          <p:cNvPicPr/>
          <p:nvPr/>
        </p:nvPicPr>
        <p:blipFill>
          <a:blip r:embed="rId3"/>
          <a:stretch/>
        </p:blipFill>
        <p:spPr>
          <a:xfrm>
            <a:off x="853920" y="3876840"/>
            <a:ext cx="1150920" cy="80460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63" descr="Vaizdo rezultatas pagal užklausą „extracurricular activities icon png“"/>
          <p:cNvPicPr/>
          <p:nvPr/>
        </p:nvPicPr>
        <p:blipFill>
          <a:blip r:embed="rId4"/>
          <a:stretch/>
        </p:blipFill>
        <p:spPr>
          <a:xfrm>
            <a:off x="853920" y="2925720"/>
            <a:ext cx="914400" cy="73188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2" descr="Vaizdo rezultatas pagal užklausą „geriatrics icon png“"/>
          <p:cNvPicPr/>
          <p:nvPr/>
        </p:nvPicPr>
        <p:blipFill>
          <a:blip r:embed="rId5"/>
          <a:stretch/>
        </p:blipFill>
        <p:spPr>
          <a:xfrm>
            <a:off x="884160" y="4979880"/>
            <a:ext cx="91440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47640" y="5904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ATLIKTI DARBAI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826560" y="1268280"/>
            <a:ext cx="7928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darytos ir patvirtinto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keturios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lt-LT" sz="1900" spc="-1" strike="noStrike">
                <a:solidFill>
                  <a:srgbClr val="000000"/>
                </a:solidFill>
                <a:latin typeface="Cambria"/>
              </a:rPr>
              <a:t>Pasvalio rajono savivaldybės strateginio plėtros plano 2021-2027 metams rengimo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darbo grupė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Atlikta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dinės ir išorinės aplinkos 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bei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SSGG analizė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formuota Pasvalio rajono plėtro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zija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formuoti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keturi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Pasvalio rajono savivaldybė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prioritetai (strateginės kryptys)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rengta Pasvalio rajono savivaldybė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strategija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rengtas Pasvalio rajono savivaldybės SPP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priemonių planas ir pagrindinių projektų sąraša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daryta Pasvalio rajono savivaldybės SPP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ertinimo rodiklių ir įgyvendinimo, stebėsenos, atsiskaitymo už rezultatus tvarka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svalio rajono savivaldybės SPP projektas buvo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ešinamas ir teiktas Pasvalio rajono savivaldybės Strateginio planavimo grupės pritarimui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E1B07-B4D9-4876-AB8A-8E2095671CC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80600" y="436680"/>
            <a:ext cx="6985080" cy="9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PAGRINDINĖS IŠVADOS (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826920" y="1528920"/>
          <a:ext cx="7993080" cy="5121000"/>
        </p:xfrm>
        <a:graphic>
          <a:graphicData uri="http://schemas.openxmlformats.org/drawingml/2006/table">
            <a:tbl>
              <a:tblPr/>
              <a:tblGrid>
                <a:gridCol w="1311480"/>
                <a:gridCol w="66816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ečiamos socialinės apsaugos paslaugos, tačiau išlieka neaptarnautos tam tikros tikslinės grupės, dėl ko didėja socialinė atskir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Platus teikiamų paslaugų spektras Pasvalio VB, didelė edukacinių užsiėmimų įvairovė Pasvalio muziejuje, 2017 m. Pasvalio KC suteikta aukščiausia kategor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jaunų asmenų skaičius ir jaunimo užimtumo kaime stoka, bet veikia AJE ir AJC, įgyvendinama jaunimo polit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nti Pasvalio rajono vietos veiklos grupė, labai aktyvios bendruomenės, svarbūs jų vykdomi projek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72362-48D4-4C6E-870E-63F4C86C833F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9" name="Picture 11" descr="Vaizdo rezultatas pagal užklausą „social services institutions icon png“"/>
          <p:cNvPicPr/>
          <p:nvPr/>
        </p:nvPicPr>
        <p:blipFill>
          <a:blip r:embed="rId1"/>
          <a:stretch/>
        </p:blipFill>
        <p:spPr>
          <a:xfrm>
            <a:off x="871560" y="1620720"/>
            <a:ext cx="1298520" cy="95112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9" descr="Vaizdo rezultatas pagal užklausą „young people icon png“"/>
          <p:cNvPicPr/>
          <p:nvPr/>
        </p:nvPicPr>
        <p:blipFill>
          <a:blip r:embed="rId2"/>
          <a:stretch/>
        </p:blipFill>
        <p:spPr>
          <a:xfrm>
            <a:off x="974880" y="4438800"/>
            <a:ext cx="1122120" cy="88884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9" descr="Susijęs vaizdas"/>
          <p:cNvPicPr/>
          <p:nvPr/>
        </p:nvPicPr>
        <p:blipFill>
          <a:blip r:embed="rId3"/>
          <a:stretch/>
        </p:blipFill>
        <p:spPr>
          <a:xfrm>
            <a:off x="974880" y="2968560"/>
            <a:ext cx="1122120" cy="103680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2" descr="Vaizdo rezultatas pagal užklausą „non-governmental organization icon png“"/>
          <p:cNvPicPr/>
          <p:nvPr/>
        </p:nvPicPr>
        <p:blipFill>
          <a:blip r:embed="rId4"/>
          <a:stretch/>
        </p:blipFill>
        <p:spPr>
          <a:xfrm>
            <a:off x="1042920" y="5589720"/>
            <a:ext cx="10540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826920" y="1598760"/>
          <a:ext cx="8150400" cy="5470200"/>
        </p:xfrm>
        <a:graphic>
          <a:graphicData uri="http://schemas.openxmlformats.org/drawingml/2006/table">
            <a:tbl>
              <a:tblPr/>
              <a:tblGrid>
                <a:gridCol w="8150400"/>
              </a:tblGrid>
              <a:tr h="1188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uoti švietimo, socialinės apsaugos, sveikatos priežiūros, kultūros įstaigų infrastruktūrą, diegti inovaci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itraukti jaunus, kvalifikuotus specialistus į rajon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gyvendinti vaikų ir jaunimo socializacijos programas, sudaryti sąlygas ugdytinių užimtumui visą dieną, organizuoti moky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ugdymo įstaigose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os ir automatizavimo, biotechnologijų, transporto ir logistikos, žemės ūkio bei pramonės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rypčių neformaliojo švietimo programas, vykdyti profesinį orientavimą, kurti dualinę profesinę mokymo siste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71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5D633-153A-4650-B92A-DAA169DA264C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7" name=""/>
          <p:cNvGraphicFramePr/>
          <p:nvPr/>
        </p:nvGraphicFramePr>
        <p:xfrm>
          <a:off x="912960" y="1598760"/>
          <a:ext cx="8064360" cy="557820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veiklinti kultūros įstaigų infrastruktūrą europiniams, nacionaliniams, regioniniams keliams (turizmui), švietimui, kitoms viešosioms paslaugoms, ekonominei veiklai (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dradarbystės erdvės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rganizuoti kultūros renginius, skatinti ir remti menininkus, meno mėgėjų kolektyvus, įgyvendinti projektus, kultūros 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gyventojų sveiką gyvenseną, sudaryti palankias sąlygas fiziniam aktyvumui, spręsti sveikatos priežiūros specialistų trūkumo problem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žtikrinti socialines paslaugas pažeidžiamiausioms gyventojų grupėms, kurti vaikui ir šeimai palankią aplink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1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D45F7-9441-415B-93AE-92022940CEC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912960" y="1598760"/>
          <a:ext cx="8064360" cy="4479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urti (pritaikyti) specializuotas programas, skirtas institucinę patirtų turinčių grupių integracij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mti ir skatinti bendruomeninius socialinių inovacijų projektus, įgyvendinti emigrantų grąžinimo, imigrantų integravimo 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jaunimui palankią infrastruktūrą, steigti AJC ir AJE, plėtoti mobilų darbą su jaunimu, remti jaunimo projekt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mti NVO, BO atsiradimą, jų narių skaičiaus augimą, NVO, BO, VVG projek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NVO, BO teikti naujos kartos mišriąsias viešąsias paslaugas, įgyvendinti paskatų siste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2D0DF-146D-402B-BA1F-93DC855252E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48836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03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04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1E752-140E-46ED-9635-E4336BB7E7F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712800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920880" y="1279440"/>
          <a:ext cx="8172360" cy="5578560"/>
        </p:xfrm>
        <a:graphic>
          <a:graphicData uri="http://schemas.openxmlformats.org/drawingml/2006/table">
            <a:tbl>
              <a:tblPr/>
              <a:tblGrid>
                <a:gridCol w="1338120"/>
                <a:gridCol w="68342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aplinkos oro, paviršinio ir požeminio vandens, kraštovaizdžio, triukšmo stebės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švystyta atliekų surinkimo, rūšiavimo, mažinimo sistema (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 didelių gabaritų, žaliųjų atliekų surinkimo aikštelės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, tačiau nepakankamas gyventojų sąmoningumas rūšiuojant atliek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vandens tiekimo ir nuotekų tvarkymo infrastruktūros plėtra, tačiau gyventojai pasyviai jungiasi prie tinklų, rajoninėje teritorijoje nėra surenkamos lietaus nuotėk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daugiabučių gyvenamųjų ir viešųjų pastatų renovacija, vystoma alternatyvi energet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atogi susisiekimo sistema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Via Baltic, Rail Baltic),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bet maža kelių su patobulinta danga da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7CCB0-4D66-47C6-8761-FD99B9F5BD99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8" name="Picture 8" descr="Vaizdo rezultatas pagal užklausą „environmental monitoring icon png“"/>
          <p:cNvPicPr/>
          <p:nvPr/>
        </p:nvPicPr>
        <p:blipFill>
          <a:blip r:embed="rId1"/>
          <a:stretch/>
        </p:blipFill>
        <p:spPr>
          <a:xfrm>
            <a:off x="914400" y="1274760"/>
            <a:ext cx="1341360" cy="81612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Vaizdo rezultatas pagal užklausą „waste icon png“"/>
          <p:cNvPicPr/>
          <p:nvPr/>
        </p:nvPicPr>
        <p:blipFill>
          <a:blip r:embed="rId2"/>
          <a:stretch/>
        </p:blipFill>
        <p:spPr>
          <a:xfrm>
            <a:off x="974880" y="2371680"/>
            <a:ext cx="1116000" cy="9684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Vaizdo rezultatas pagal užklausą „sewage collection icon png“"/>
          <p:cNvPicPr/>
          <p:nvPr/>
        </p:nvPicPr>
        <p:blipFill>
          <a:blip r:embed="rId3"/>
          <a:stretch/>
        </p:blipFill>
        <p:spPr>
          <a:xfrm>
            <a:off x="969840" y="4022640"/>
            <a:ext cx="1114560" cy="97632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Vaizdo rezultatas pagal užklausą „car icon png“"/>
          <p:cNvPicPr/>
          <p:nvPr/>
        </p:nvPicPr>
        <p:blipFill>
          <a:blip r:embed="rId4"/>
          <a:stretch/>
        </p:blipFill>
        <p:spPr>
          <a:xfrm>
            <a:off x="1163520" y="6029280"/>
            <a:ext cx="920880" cy="7923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1" descr="Vaizdo rezultatas pagal užklausą „apartment building icon png“"/>
          <p:cNvPicPr/>
          <p:nvPr/>
        </p:nvPicPr>
        <p:blipFill>
          <a:blip r:embed="rId5"/>
          <a:stretch/>
        </p:blipFill>
        <p:spPr>
          <a:xfrm>
            <a:off x="1163520" y="5205240"/>
            <a:ext cx="9208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282680" y="617040"/>
            <a:ext cx="735984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611280" y="1531800"/>
          <a:ext cx="8453520" cy="531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varkyti atliekas ir vykdyti gyventojų aplinkosauginį šviet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augoti, prižiūrėti ir plėtoti žaliuosius plo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493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kelių infrastruktūrą, didinti eismo saugu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darnaus judumo sistemų funkcionavimui būtiną fizinę bei intelektinę infrastruktūrą, remti alternatyvaus pavėžėjimo iniciaty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udaryti sąlygas naudotis ekologinėmis transporto priemonėmis, kurti ir plėsti infrastruktūrą bevariklio transporto priemonė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dinti mažiau taršių energijos šaltinių panaudojimą, skatinti naudoti alternatyvius ir atsinaujinančius energijos šaltin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kaimo ir miesto gyvenamąją aplink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5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1C80C-AB50-471A-B69D-D6E9B04CB2C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0563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17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18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658B4-C835-4DA2-8DD2-BD36E2B3A2A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380600" y="436680"/>
            <a:ext cx="6985080" cy="9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876240" y="1521000"/>
          <a:ext cx="7993080" cy="3598560"/>
        </p:xfrm>
        <a:graphic>
          <a:graphicData uri="http://schemas.openxmlformats.org/drawingml/2006/table">
            <a:tbl>
              <a:tblPr/>
              <a:tblGrid>
                <a:gridCol w="1311480"/>
                <a:gridCol w="66816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didelis dėmesys skiriamas viešojo saugumo prevencijai, didesnė nei šalyje ir apskrityje ištirtų nusikalstamų veikų da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gaisrų skaičius, bet augantis įskaitinių kelių eismo įvykių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iamos ir plėtojamos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-paslaugos,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echninės ir programinės, tinklo saugos priemonės, nuolat atnaujinamos ir prižiūrimos įstaigų, institucijų interneto svetainės, kuriamos socialinės pasky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80B4A-6606-4DCA-8E26-1BFBDCC83A1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2" name="Picture 10" descr="Vaizdo rezultatas pagal užklausą „criminal icon png“"/>
          <p:cNvPicPr/>
          <p:nvPr/>
        </p:nvPicPr>
        <p:blipFill>
          <a:blip r:embed="rId1"/>
          <a:stretch/>
        </p:blipFill>
        <p:spPr>
          <a:xfrm>
            <a:off x="969840" y="1700280"/>
            <a:ext cx="1054080" cy="93960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9" descr="Vaizdo rezultatas pagal užklausą „car crash icon png“"/>
          <p:cNvPicPr/>
          <p:nvPr/>
        </p:nvPicPr>
        <p:blipFill>
          <a:blip r:embed="rId2"/>
          <a:stretch/>
        </p:blipFill>
        <p:spPr>
          <a:xfrm>
            <a:off x="969840" y="2846520"/>
            <a:ext cx="1054080" cy="57924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12" descr="Vaizdo rezultatas pagal užklausą „website icon png“"/>
          <p:cNvPicPr/>
          <p:nvPr/>
        </p:nvPicPr>
        <p:blipFill>
          <a:blip r:embed="rId3"/>
          <a:stretch/>
        </p:blipFill>
        <p:spPr>
          <a:xfrm>
            <a:off x="969840" y="3846600"/>
            <a:ext cx="122400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01840" y="510840"/>
            <a:ext cx="7076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1401840" y="1700280"/>
          <a:ext cx="7489800" cy="37796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yti mokymus, kvalifikacijos kėl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yti prevencines programas ir prie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stebėjimo priemones raj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iekti lygių teisių įgyvendinimo, administracinės naštos bei korupcijos mažin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informacinių technologijų bazę, diegti e-paslau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tarptautinį, tarpinstitucinį bendradarbiav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F25E9-CEE1-438C-BAA0-3A38248E1C75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03280" y="519120"/>
            <a:ext cx="7561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ĮGYVENDINAMI DARBAI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655640" y="1495080"/>
            <a:ext cx="705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ambria"/>
              </a:rPr>
              <a:t>Patikslintas Pasvalio rajono savivaldybės SPP </a:t>
            </a:r>
            <a:r>
              <a:rPr b="1" lang="lt-LT" sz="2000" spc="-1" strike="noStrike">
                <a:solidFill>
                  <a:srgbClr val="000000"/>
                </a:solidFill>
                <a:latin typeface="Cambria"/>
              </a:rPr>
              <a:t>teikiamas svarstyti Pasvalio rajono savivaldybės Komitetams ir tvirtinti Taryba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6673-32EC-4212-B797-47838F0EFC2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02920" y="558360"/>
            <a:ext cx="6994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29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30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6FE99-D19D-46A2-9DD1-7C690253EBA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879200" y="1989000"/>
            <a:ext cx="63486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5000" spc="-1" strike="noStrike">
                <a:solidFill>
                  <a:srgbClr val="262626"/>
                </a:solidFill>
                <a:latin typeface="Calibri"/>
              </a:rPr>
              <a:t>Dėkojame!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28800" y="4266720"/>
            <a:ext cx="7286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3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68F2E-1E7A-4117-BCC4-A80E257066F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47280" y="556920"/>
            <a:ext cx="72723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2371E-DC5E-4493-A5B0-425B0AA02D14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7" name="Group 32"/>
          <p:cNvGrpSpPr/>
          <p:nvPr/>
        </p:nvGrpSpPr>
        <p:grpSpPr>
          <a:xfrm>
            <a:off x="1547640" y="2060640"/>
            <a:ext cx="863640" cy="831960"/>
            <a:chOff x="1547640" y="2060640"/>
            <a:chExt cx="863640" cy="831960"/>
          </a:xfrm>
        </p:grpSpPr>
        <p:sp>
          <p:nvSpPr>
            <p:cNvPr id="1198" name="Oval 33"/>
            <p:cNvSpPr/>
            <p:nvPr/>
          </p:nvSpPr>
          <p:spPr>
            <a:xfrm>
              <a:off x="1547640" y="2100240"/>
              <a:ext cx="792360" cy="79236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TextBox 34"/>
            <p:cNvSpPr/>
            <p:nvPr/>
          </p:nvSpPr>
          <p:spPr>
            <a:xfrm>
              <a:off x="1692000" y="206064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0" name="Stačiakampis 26"/>
          <p:cNvSpPr/>
          <p:nvPr/>
        </p:nvSpPr>
        <p:spPr>
          <a:xfrm>
            <a:off x="2050920" y="22226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Pasvalio rajono savivaldybės strateginį plėtros planą 2021-2027 metams skaičia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92360" y="546120"/>
            <a:ext cx="634824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PASVALIO SPP SKAIČIAIS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Stačiakampis 26"/>
          <p:cNvSpPr/>
          <p:nvPr/>
        </p:nvSpPr>
        <p:spPr>
          <a:xfrm>
            <a:off x="2733840" y="1879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DARBO GRUPĖ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4" name="Group 2" descr=""/>
          <p:cNvPicPr/>
          <p:nvPr/>
        </p:nvPicPr>
        <p:blipFill>
          <a:blip r:embed="rId1"/>
          <a:stretch/>
        </p:blipFill>
        <p:spPr>
          <a:xfrm>
            <a:off x="1962000" y="1579680"/>
            <a:ext cx="1128960" cy="1285920"/>
          </a:xfrm>
          <a:prstGeom prst="rect">
            <a:avLst/>
          </a:prstGeom>
          <a:ln w="0">
            <a:noFill/>
          </a:ln>
        </p:spPr>
      </p:pic>
      <p:sp>
        <p:nvSpPr>
          <p:cNvPr id="1205" name="Stačiakampis 21"/>
          <p:cNvSpPr/>
          <p:nvPr/>
        </p:nvSpPr>
        <p:spPr>
          <a:xfrm>
            <a:off x="2733840" y="304308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SUSITIKIM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Stačiakampis 22"/>
          <p:cNvSpPr/>
          <p:nvPr/>
        </p:nvSpPr>
        <p:spPr>
          <a:xfrm>
            <a:off x="2733840" y="412740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VIZIJA IKI 2027 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7" name="Group 2" descr=""/>
          <p:cNvPicPr/>
          <p:nvPr/>
        </p:nvPicPr>
        <p:blipFill>
          <a:blip r:embed="rId2"/>
          <a:stretch/>
        </p:blipFill>
        <p:spPr>
          <a:xfrm>
            <a:off x="1962000" y="5089680"/>
            <a:ext cx="1128960" cy="1287360"/>
          </a:xfrm>
          <a:prstGeom prst="rect">
            <a:avLst/>
          </a:prstGeom>
          <a:ln w="0">
            <a:noFill/>
          </a:ln>
        </p:spPr>
      </p:pic>
      <p:pic>
        <p:nvPicPr>
          <p:cNvPr id="1208" name="Group 2" descr=""/>
          <p:cNvPicPr/>
          <p:nvPr/>
        </p:nvPicPr>
        <p:blipFill>
          <a:blip r:embed="rId3"/>
          <a:stretch/>
        </p:blipFill>
        <p:spPr>
          <a:xfrm>
            <a:off x="1700280" y="2719440"/>
            <a:ext cx="1384200" cy="1285920"/>
          </a:xfrm>
          <a:prstGeom prst="rect">
            <a:avLst/>
          </a:prstGeom>
          <a:ln w="0">
            <a:noFill/>
          </a:ln>
        </p:spPr>
      </p:pic>
      <p:pic>
        <p:nvPicPr>
          <p:cNvPr id="1209" name="Group 2" descr=""/>
          <p:cNvPicPr/>
          <p:nvPr/>
        </p:nvPicPr>
        <p:blipFill>
          <a:blip r:embed="rId4"/>
          <a:stretch/>
        </p:blipFill>
        <p:spPr>
          <a:xfrm>
            <a:off x="1962000" y="3822840"/>
            <a:ext cx="1128960" cy="1285560"/>
          </a:xfrm>
          <a:prstGeom prst="rect">
            <a:avLst/>
          </a:prstGeom>
          <a:ln w="0">
            <a:noFill/>
          </a:ln>
        </p:spPr>
      </p:pic>
      <p:sp>
        <p:nvSpPr>
          <p:cNvPr id="1210" name="Stačiakampis 22"/>
          <p:cNvSpPr/>
          <p:nvPr/>
        </p:nvSpPr>
        <p:spPr>
          <a:xfrm>
            <a:off x="2733840" y="538956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IORITET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A5FF6-35E0-40DD-9212-E5A52DE234B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76000" y="608040"/>
            <a:ext cx="63486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PASVALIO SPP SKAIČIAIS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Stačiakampis 21"/>
          <p:cNvSpPr/>
          <p:nvPr/>
        </p:nvSpPr>
        <p:spPr>
          <a:xfrm>
            <a:off x="2722680" y="206388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TIKSL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Stačiakampis 22"/>
          <p:cNvSpPr/>
          <p:nvPr/>
        </p:nvSpPr>
        <p:spPr>
          <a:xfrm>
            <a:off x="2709720" y="333216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UŽDAVINI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Stačiakampis 23"/>
          <p:cNvSpPr/>
          <p:nvPr/>
        </p:nvSpPr>
        <p:spPr>
          <a:xfrm>
            <a:off x="2709720" y="4610160"/>
            <a:ext cx="60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IEMONĖ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Stačiakampis 23"/>
          <p:cNvSpPr/>
          <p:nvPr/>
        </p:nvSpPr>
        <p:spPr>
          <a:xfrm>
            <a:off x="2709720" y="5729400"/>
            <a:ext cx="60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OJEKT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8" name="Group 2" descr=""/>
          <p:cNvPicPr/>
          <p:nvPr/>
        </p:nvPicPr>
        <p:blipFill>
          <a:blip r:embed="rId1"/>
          <a:stretch/>
        </p:blipFill>
        <p:spPr>
          <a:xfrm>
            <a:off x="1474920" y="1792440"/>
            <a:ext cx="1542960" cy="1285560"/>
          </a:xfrm>
          <a:prstGeom prst="rect">
            <a:avLst/>
          </a:prstGeom>
          <a:ln w="0">
            <a:noFill/>
          </a:ln>
        </p:spPr>
      </p:pic>
      <p:pic>
        <p:nvPicPr>
          <p:cNvPr id="1219" name="Group 2" descr=""/>
          <p:cNvPicPr/>
          <p:nvPr/>
        </p:nvPicPr>
        <p:blipFill>
          <a:blip r:embed="rId2"/>
          <a:stretch/>
        </p:blipFill>
        <p:spPr>
          <a:xfrm>
            <a:off x="1450800" y="3078000"/>
            <a:ext cx="1560600" cy="1285920"/>
          </a:xfrm>
          <a:prstGeom prst="rect">
            <a:avLst/>
          </a:prstGeom>
          <a:ln w="0">
            <a:noFill/>
          </a:ln>
        </p:spPr>
      </p:pic>
      <p:pic>
        <p:nvPicPr>
          <p:cNvPr id="1220" name="Group 2" descr=""/>
          <p:cNvPicPr/>
          <p:nvPr/>
        </p:nvPicPr>
        <p:blipFill>
          <a:blip r:embed="rId3"/>
          <a:stretch/>
        </p:blipFill>
        <p:spPr>
          <a:xfrm>
            <a:off x="1279440" y="4316400"/>
            <a:ext cx="1762200" cy="1285920"/>
          </a:xfrm>
          <a:prstGeom prst="rect">
            <a:avLst/>
          </a:prstGeom>
          <a:ln w="0">
            <a:noFill/>
          </a:ln>
        </p:spPr>
      </p:pic>
      <p:pic>
        <p:nvPicPr>
          <p:cNvPr id="1221" name="Group 2" descr=""/>
          <p:cNvPicPr/>
          <p:nvPr/>
        </p:nvPicPr>
        <p:blipFill>
          <a:blip r:embed="rId4"/>
          <a:stretch/>
        </p:blipFill>
        <p:spPr>
          <a:xfrm>
            <a:off x="1500120" y="5430960"/>
            <a:ext cx="1535040" cy="1287360"/>
          </a:xfrm>
          <a:prstGeom prst="rect">
            <a:avLst/>
          </a:prstGeom>
          <a:ln w="0">
            <a:noFill/>
          </a:ln>
        </p:spPr>
      </p:pic>
      <p:sp>
        <p:nvSpPr>
          <p:cNvPr id="122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0C24E-0A60-49B5-9CB5-49D62B28A622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EE957-9CBD-4EA1-B42B-A4F5C0D4574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26" name="Group 32"/>
          <p:cNvGrpSpPr/>
          <p:nvPr/>
        </p:nvGrpSpPr>
        <p:grpSpPr>
          <a:xfrm>
            <a:off x="1763640" y="2470320"/>
            <a:ext cx="863640" cy="831600"/>
            <a:chOff x="1763640" y="2470320"/>
            <a:chExt cx="863640" cy="831600"/>
          </a:xfrm>
        </p:grpSpPr>
        <p:sp>
          <p:nvSpPr>
            <p:cNvPr id="1227" name="Oval 33"/>
            <p:cNvSpPr/>
            <p:nvPr/>
          </p:nvSpPr>
          <p:spPr>
            <a:xfrm>
              <a:off x="1763640" y="2509920"/>
              <a:ext cx="792360" cy="79200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28" name="TextBox 34"/>
            <p:cNvSpPr/>
            <p:nvPr/>
          </p:nvSpPr>
          <p:spPr>
            <a:xfrm>
              <a:off x="1908000" y="247032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9" name="Stačiakampis 26"/>
          <p:cNvSpPr/>
          <p:nvPr/>
        </p:nvSpPr>
        <p:spPr>
          <a:xfrm>
            <a:off x="2278080" y="2381400"/>
            <a:ext cx="66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Pasvalio rajono viziją iki 2027 met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41160" y="549000"/>
            <a:ext cx="635004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VIZIJOS KŪRIMO EIG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1522080" y="1557000"/>
            <a:ext cx="7343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Darbo grupėse suformuluoti 4 Pasvalio rajono vizijos iki 2027 m. variantai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Vyko internetinis balsavimas (apklausa) dėl tinkamiausio vizijos varianto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Apklausoje dalyvavo 453 respondentai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45FA4-42CF-485D-B6CA-3A3D5F38229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03280" y="596520"/>
            <a:ext cx="6778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KETURI VIZIJOS VARIANTAI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4" name="Diagram 235" descr=""/>
          <p:cNvPicPr/>
          <p:nvPr/>
        </p:nvPicPr>
        <p:blipFill>
          <a:blip r:embed="rId1"/>
          <a:stretch/>
        </p:blipFill>
        <p:spPr>
          <a:xfrm>
            <a:off x="347760" y="1305000"/>
            <a:ext cx="8126280" cy="539424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1FF6E-3750-456F-94A4-94FC971452D6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56:23Z</dcterms:created>
  <dc:creator>Arvydas</dc:creator>
  <dc:description/>
  <dc:language>en-US</dc:language>
  <cp:lastModifiedBy>„Windows“ vartotojas</cp:lastModifiedBy>
  <cp:lastPrinted>2019-06-21T10:28:12Z</cp:lastPrinted>
  <dcterms:modified xsi:type="dcterms:W3CDTF">2019-08-12T07:36:11Z</dcterms:modified>
  <cp:revision>650</cp:revision>
  <dc:subject/>
  <dc:title>Klaipėdos miesto strateginio plėtros plano 2013-2020 metams rengimas. Įvadinis susitiki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82699990</vt:lpwstr>
  </property>
</Properties>
</file>